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038-03B9-4240-A00A-064F6CB5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C76-0302-41C7-8CEB-61762DC8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1F58-FF18-47C8-BD2A-0D1A6454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7D4-44BE-4D9D-8989-D1BDCA85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4125-4942-4E08-8A4A-2C1952A6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FAE6-D555-4687-939C-A60E1C1D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1383-C67E-4BF1-8F84-3B0FC39E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FB3-9706-40A4-A7D4-C6D708BB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EB08-CCF4-44CA-9CA6-B04A0271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976E-0806-4F57-8BD6-D19021AF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C152-DAA0-476A-B596-F6F3CCD1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7616-0620-430A-8DEA-72A58C54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61F9-7D1B-470D-8180-5E3EE98C6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89154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cc00"/>
                </a:solidFill>
                <a:uFillTx/>
                <a:latin typeface="Arial"/>
              </a:rPr>
              <a:t>Subject / Verb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  Emily and Greg (comes,  come) to my house every Friday for lu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  There (is,  are) time to watch the mov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  My friends who are in the band (wants,  want) me to play a musical instr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  My father or my brothers (is,  are) coming with me to the ball g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  Everyone (needs, need) time to rel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  That bag of oranges (looks, look) fre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  The lacrosse team (hopes, hope) to win the tournament next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  Your trousers (needs, need) to be clea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  Some of the books on the shelf (is, are) dus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  Even though the students like the class, a few (thinks, think) that it is too complic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304920"/>
            <a:ext cx="8305920" cy="63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correct verb in each sentence below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  Mumps (is, are) not common among ad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  Viruses from third world countries (is, are) a major conc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  Most of the sand (is, are)  wet from the high 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  Either the two kittens or the puppy (sits, sit) in my lap while I watch telev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  A subject of great interest (is, are) rainfo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 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ansel and Gret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is, are) a famous children's 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  The team members (is, are) arguing over the defense tac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  The economics of the trip (was, were) plea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  Why (is, are) your parents going to Africa for a va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  The mayor and the governor (hopes, hope) that the bill will soon become a la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20:39:30Z</dcterms:created>
  <dc:creator>Cathy Carpenter</dc:creator>
  <dc:description/>
  <dc:language>en-US</dc:language>
  <cp:lastModifiedBy>Cathy Carpenter</cp:lastModifiedBy>
  <dcterms:modified xsi:type="dcterms:W3CDTF">2007-07-30T20:51:06Z</dcterms:modified>
  <cp:revision>3</cp:revision>
  <dc:subject/>
  <dc:title>Slide 1</dc:title>
</cp:coreProperties>
</file>